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3DE02-1CC9-404B-AF43-97B280642B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14040" y="398844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2CE30-96C0-4B85-B1E7-1CDE87E606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748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A5A02-AEC0-45DC-B190-A2B3D76BB0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9352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27336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1404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9352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27336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FF441-15DB-4402-AF07-274FC72736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523880" y="151920"/>
            <a:ext cx="7315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7E6C5-FC95-4497-8E52-F299CC604A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748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040" y="398844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748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9352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7336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04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9352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7336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8C954-D2AE-4FED-83B4-7FE48A4C19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541E7-4474-4093-8744-DB115220EA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D722A-7240-44B6-A014-BCAF589437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23880" y="151920"/>
            <a:ext cx="7315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0D6C1-D738-48D7-BE70-1AD6BE21D0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5708E-D43A-4865-90CA-00AA9055FD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748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6036C-5F6F-4880-ADEA-31EE7D73E8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8F87C-391C-47B8-9AF4-71A8CCCAAD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hyperlink" Target="http://rds.yahoo.com/S=96062857/K=medical/v=2/SID=e/l=II/R=397/SS=i/OID=68c644398765b1b0/SIG=1hr2p4h9p/EXP=1104428561/*-http%3A//images.search.yahoo.com/search/images/view?back=http%3A%2F%2Fimages.search.yahoo.com%2Fsearch%2Fimages%3Fp%3Dmedical%26toggle%3D1%26ei%3DUTF-8%26imgsz%3Dall%26fr%3DFP-tab-img-t-192%26b%3D381&amp;h=193&amp;w=206&amp;imgcurl=www.workpartners.com%2Fimages%2Fphoto-medical-services.jpg&amp;imgurl=www.workpartners.com%2Fimages%2Fphoto-medical-services.jpg&amp;size=11.0kB&amp;name=photo-medical-services.jpg&amp;rcurl=http%3A%2F%2Fwww.workpartners.com%2Fmedical-services.htm&amp;rurl=http%3A%2F%2Fwww.workpartners.com%2Fmedical-services.htm&amp;p=medical&amp;type=jpeg&amp;no=397&amp;tt=1,483,666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3448080" y="6343560"/>
            <a:ext cx="344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pplication Trai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933960" y="6343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A095-47E8-499C-9615-88F501E2A1DF}" type="slidenum">
              <a:rPr b="0" lang="en-US" sz="9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86080" y="1219320"/>
            <a:ext cx="7277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228600"/>
            <a:ext cx="73152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1371600"/>
            <a:ext cx="0" cy="5105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52280" y="1295280"/>
            <a:ext cx="0" cy="457200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09480"/>
            <a:ext cx="1371600" cy="60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1371600" cy="6094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67200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76320" y="434880"/>
            <a:ext cx="1066680" cy="32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05120" y="3200400"/>
            <a:ext cx="7238880" cy="19810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92a7d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447920"/>
            <a:ext cx="9144000" cy="17524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738fc6"/>
              </a:gs>
              <a:gs pos="100000">
                <a:srgbClr val="0033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3200400"/>
            <a:ext cx="1905120" cy="1981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52480" y="334800"/>
            <a:ext cx="541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Application Trai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1676520"/>
            <a:ext cx="602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181480"/>
            <a:ext cx="274320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8160" y="5638680"/>
            <a:ext cx="1714320" cy="766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038480" y="5181480"/>
            <a:ext cx="5105520" cy="13716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Go to full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905120" y="5181480"/>
            <a:ext cx="2133360" cy="1676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057400" y="4648320"/>
            <a:ext cx="6934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HHS bird logo"/>
          <p:cNvPicPr/>
          <p:nvPr/>
        </p:nvPicPr>
        <p:blipFill>
          <a:blip r:embed="rId6"/>
          <a:stretch/>
        </p:blipFill>
        <p:spPr>
          <a:xfrm>
            <a:off x="8477280" y="5829480"/>
            <a:ext cx="51444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gateway.cms.hhs.gov/" TargetMode="External"/><Relationship Id="rId2" Type="http://schemas.openxmlformats.org/officeDocument/2006/relationships/hyperlink" Target="https://gateway.cms.hhs.gov/" TargetMode="External"/><Relationship Id="rId3" Type="http://schemas.openxmlformats.org/officeDocument/2006/relationships/hyperlink" Target="http://32.91.239.68/" TargetMode="External"/><Relationship Id="rId4" Type="http://schemas.openxmlformats.org/officeDocument/2006/relationships/hyperlink" Target="http://32.91.239.68/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Timothy.Hoogerwerf@cms.hhs.gov" TargetMode="External"/><Relationship Id="rId2" Type="http://schemas.openxmlformats.org/officeDocument/2006/relationships/hyperlink" Target="mailto:Gregory.Buglio@cms.hhs.gov" TargetMode="External"/><Relationship Id="rId3" Type="http://schemas.openxmlformats.org/officeDocument/2006/relationships/hyperlink" Target="mailto:Neetu.Jhagwani@cms.hhs.gov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HPMS Activities for CY 2007</a:t>
            </a:r>
            <a:endParaRPr b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 and PDP organizations will use HPMS to: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ter and maintain contract and plan inform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load formulary submiss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wnload the BPT and PBP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load bid data submiss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view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Medicare &amp; Yo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Handbook and Medicare Personal Plan Finder data prior to publi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form marketing, reporting, and oversight activ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cess data views, extracts, and repor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EE654-0124-4FBF-A2A9-0C5717E74C4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HPMS Access</a:t>
            </a:r>
            <a:endParaRPr b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PMS is a web-enabled Extranet application that resides within the Medicare Data Communications Network (MDCN). 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PMS requires a CMS user ID/password and the Microsoft Internet Explorer web browser.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758FB-CA5D-4424-9AD3-6B840672E1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HPMS Connectivity Options</a:t>
            </a:r>
            <a:endParaRPr b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ree alternatives for accessing HPMS: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net access via a Secure Socket Layer Virtual Private Network (SSL VPN) using your corporate Internet Service Provider (ISP) at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ea typeface="Times New Roman"/>
                <a:hlinkClick r:id="rId1"/>
              </a:rPr>
              <a:t>https:/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ea typeface="Times New Roman"/>
                <a:hlinkClick r:id="rId2"/>
              </a:rPr>
              <a:t>gateway.cms.hhs.gov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-1 lease line access via AT&amp;T Global Network Services (AGNS) at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ea typeface="Times New Roman"/>
                <a:hlinkClick r:id="rId3"/>
              </a:rPr>
              <a:t>http://32.91.239.68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al-up access via AGNS at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ea typeface="Times New Roman"/>
                <a:hlinkClick r:id="rId4"/>
              </a:rPr>
              <a:t>http://32.91.239.68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6B060-D071-486B-9099-43AC6A8916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HPMS Contact List</a:t>
            </a:r>
            <a:endParaRPr b="1" lang="en-US" sz="2000" spc="-1" strike="noStrike">
              <a:solidFill>
                <a:srgbClr val="ffcc66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14400" y="1600200"/>
          <a:ext cx="7924680" cy="4572000"/>
        </p:xfrm>
        <a:graphic>
          <a:graphicData uri="http://schemas.openxmlformats.org/drawingml/2006/table">
            <a:tbl>
              <a:tblPr/>
              <a:tblGrid>
                <a:gridCol w="1455120"/>
                <a:gridCol w="2750040"/>
                <a:gridCol w="37195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Phone Number / E-M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Responsibili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ori Robins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10-786-18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ori.Robinson@cms.hhs.g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rector, Division of Health Plan and Provider Data (DHPP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Kristin Fin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410-786-28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Kristin.Finch@cms.hhs.g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ystems analyst for bid and formulary submissions, including BPT and PBP softwa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Tim Hoogerwer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410-786-99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ccccff"/>
                          </a:solidFill>
                          <a:uFillTx/>
                          <a:latin typeface="Tahoma"/>
                          <a:ea typeface="Times New Roman"/>
                          <a:hlinkClick r:id="rId1"/>
                        </a:rPr>
                        <a:t>Timothy.Hoogerwerf@cms.hhs.g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ystems analyst for online application, marketing, MA plan monitoring, and PA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eg Bugl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410-786-65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ccccff"/>
                          </a:solidFill>
                          <a:uFillTx/>
                          <a:latin typeface="Tahoma"/>
                          <a:ea typeface="Times New Roman"/>
                          <a:hlinkClick r:id="rId2"/>
                        </a:rPr>
                        <a:t>Gregory.Buglio@cms.hhs.g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s analyst for online application, surveys, performance assessment, and Part D oversigh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Don Freeburg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410-786-45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Don.Freeburger@cms.hhs.g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ystems analyst for HPMS connectivity, user access, and user I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Neetu Jhagwa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410-786-25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ccccff"/>
                          </a:solidFill>
                          <a:uFillTx/>
                          <a:latin typeface="Tahoma"/>
                          <a:ea typeface="Times New Roman"/>
                          <a:hlinkClick r:id="rId3"/>
                        </a:rPr>
                        <a:t>Neetu.Jhagwani@cms.hhs.g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ystems analyst for HPMS user access and user I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PMS Help Des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-800-220-20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pport for all HPMS technical iss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9D003-0879-4564-83D0-DD0E5C6F1C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0T15:25:51Z</dcterms:created>
  <dc:creator>blebowitz</dc:creator>
  <dc:description/>
  <dc:language>en-US</dc:language>
  <cp:lastModifiedBy>CMS</cp:lastModifiedBy>
  <dcterms:modified xsi:type="dcterms:W3CDTF">2006-01-23T20:04:14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95173271</vt:r8>
  </property>
  <property fmtid="{D5CDD505-2E9C-101B-9397-08002B2CF9AE}" pid="3" name="_AuthorEmail">
    <vt:lpwstr>Duva.Clyburn@cms.hhs.gov</vt:lpwstr>
  </property>
  <property fmtid="{D5CDD505-2E9C-101B-9397-08002B2CF9AE}" pid="4" name="_AuthorEmailDisplayName">
    <vt:lpwstr>Clyburn, Duva L. (CMS/CBC)</vt:lpwstr>
  </property>
  <property fmtid="{D5CDD505-2E9C-101B-9397-08002B2CF9AE}" pid="5" name="_EmailSubject">
    <vt:lpwstr>Postings for the 1/31 broadcast</vt:lpwstr>
  </property>
  <property fmtid="{D5CDD505-2E9C-101B-9397-08002B2CF9AE}" pid="6" name="_NewReviewCycle">
    <vt:lpwstr/>
  </property>
</Properties>
</file>